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  <p:custShowLst>
    <p:custShow name="Chapter" id="0">
      <p:sldLst>
        <p:sld r:id="rId14"/>
        <p:sld r:id="rId15"/>
        <p:sld r:id="rId16"/>
        <p:sld r:id="rId17"/>
        <p:sld r:id="rId22"/>
        <p:sld r:id="rId23"/>
        <p:sld r:id="rId24"/>
      </p:sldLst>
    </p:custShow>
    <p:custShow name="STP" id="1">
      <p:sldLst>
        <p:sld r:id="rId18"/>
        <p:sld r:id="rId20"/>
      </p:sldLst>
    </p:custShow>
    <p:custShow name="Transparencies" id="2">
      <p:sldLst>
        <p:sld r:id="rId16"/>
        <p:sld r:id="rId17"/>
      </p:sldLst>
    </p:custShow>
    <p:custShow name="Section 2" id="3">
      <p:sldLst>
        <p:sld r:id="rId14"/>
        <p:sld r:id="rId15"/>
        <p:sld r:id="rId16"/>
        <p:sld r:id="rId17"/>
        <p:sld r:id="rId22"/>
        <p:sld r:id="rId23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85800" y="9144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457200" y="1523880"/>
            <a:ext cx="80265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nalyze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digrees to determine how genetic traits and genetic disorders are inher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different patterns of inheritance seen in genetic traits and genetic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inheritance of ABO blood gro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x-linked traits with sex-influenced tra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w geneticists can detect and treat genetic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tic Traits and Disorder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-influenced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x-influenced trai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h as pattern baldness, is expressed differently in men than in women even if it is on an autosome and both sexes have the same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3505320" y="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tecting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tic counsel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orms screened individuals about problems that might affect their off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2"/>
          <a:stretch/>
        </p:blipFill>
        <p:spPr>
          <a:xfrm>
            <a:off x="5943600" y="-9360"/>
            <a:ext cx="3200400" cy="1773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" descr=""/>
          <p:cNvPicPr/>
          <p:nvPr/>
        </p:nvPicPr>
        <p:blipFill>
          <a:blip r:embed="rId3"/>
          <a:stretch/>
        </p:blipFill>
        <p:spPr>
          <a:xfrm>
            <a:off x="1874880" y="2971800"/>
            <a:ext cx="5288040" cy="30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3505320" y="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tecting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Genetic screen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s a person’s genetic makeup through blood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4648320" cy="25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3505320" y="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tecting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711360" y="1828800"/>
            <a:ext cx="469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niocent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orionic villi sampl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physicians test a fetus for the presence of genetic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Ultra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19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3"/>
          <a:stretch/>
        </p:blipFill>
        <p:spPr>
          <a:xfrm>
            <a:off x="5638680" y="3062160"/>
            <a:ext cx="3795840" cy="37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1219320" y="16765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below to watch the Visual Con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676680" cy="8064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7"/>
          <p:cNvSpPr/>
          <p:nvPr/>
        </p:nvSpPr>
        <p:spPr>
          <a:xfrm>
            <a:off x="2676600" y="3379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su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ng Single Allele, Multiple Allele,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d Polygenic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2514600" y="3200400"/>
            <a:ext cx="36766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5"/>
          <p:cNvSpPr/>
          <p:nvPr/>
        </p:nvSpPr>
        <p:spPr>
          <a:xfrm>
            <a:off x="1219320" y="16765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below to watch the Visual Con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676680" cy="8064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7"/>
          <p:cNvSpPr/>
          <p:nvPr/>
        </p:nvSpPr>
        <p:spPr>
          <a:xfrm>
            <a:off x="2676600" y="3379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su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ng Complete, Incomplete,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d Co-Dom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2514600" y="3200400"/>
            <a:ext cx="36766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219320" y="16765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below to watch the Visual Con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676680" cy="8064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7"/>
          <p:cNvSpPr/>
          <p:nvPr/>
        </p:nvSpPr>
        <p:spPr>
          <a:xfrm>
            <a:off x="2676600" y="3379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su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Comparing X-Linked and Sex-Influenced Tra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514600" y="3200400"/>
            <a:ext cx="36766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685800" y="9144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457200" y="1523880"/>
            <a:ext cx="802656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Analyze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 pedigrees to determine how genetic traits and genetic disorders are inher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Summarize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 the different patterns of inheritance seen in genetic traits and genetic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Explain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 the inheritance of ABO blood gro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Compare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 sex-linked traits with sex-influenced tra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Explain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 how geneticists can detect and treat genetic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heritance of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dig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ists use pedigrees to trace diseases or traits through famil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digre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diagrams that reveal inheritance patterns of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2" descr="p111"/>
          <p:cNvPicPr/>
          <p:nvPr/>
        </p:nvPicPr>
        <p:blipFill>
          <a:blip r:embed="rId2"/>
          <a:stretch/>
        </p:blipFill>
        <p:spPr>
          <a:xfrm>
            <a:off x="1754280" y="1004760"/>
            <a:ext cx="6937200" cy="51674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igree for Cystic Fibrosi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3027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mportant Genetic Disorder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1" descr="p113"/>
          <p:cNvPicPr/>
          <p:nvPr/>
        </p:nvPicPr>
        <p:blipFill>
          <a:blip r:embed="rId2"/>
          <a:stretch/>
        </p:blipFill>
        <p:spPr>
          <a:xfrm>
            <a:off x="0" y="0"/>
            <a:ext cx="9651960" cy="694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2"/>
          <p:cNvSpPr/>
          <p:nvPr/>
        </p:nvSpPr>
        <p:spPr>
          <a:xfrm>
            <a:off x="0" y="0"/>
            <a:ext cx="9144000" cy="44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utosomal recessive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. Tay Sac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. PKU- Phenylketonu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. Albin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. cystic fib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3890880" y="2057400"/>
            <a:ext cx="4910400" cy="414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25909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2"/>
          <p:cNvSpPr/>
          <p:nvPr/>
        </p:nvSpPr>
        <p:spPr>
          <a:xfrm>
            <a:off x="0" y="0"/>
            <a:ext cx="9144000" cy="19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ckle-Cell Anemia (Autosomal  Recess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5029200" y="1262160"/>
            <a:ext cx="3133800" cy="3457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3873600" cy="35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2"/>
          <p:cNvSpPr/>
          <p:nvPr/>
        </p:nvSpPr>
        <p:spPr>
          <a:xfrm>
            <a:off x="0" y="0"/>
            <a:ext cx="9144000" cy="19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Huntington’s Disease (Autosomal Dominan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5506920" y="1189080"/>
            <a:ext cx="3637080" cy="2590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-55440" y="1200240"/>
            <a:ext cx="5562360" cy="25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2"/>
          <p:cNvSpPr/>
          <p:nvPr/>
        </p:nvSpPr>
        <p:spPr>
          <a:xfrm>
            <a:off x="0" y="0"/>
            <a:ext cx="9144000" cy="356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utosomal Domi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hondroplasi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dwarfi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15 year gir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6041880" y="0"/>
            <a:ext cx="3102120" cy="4441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1898640" y="2144880"/>
            <a:ext cx="2728800" cy="40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3316320" y="0"/>
            <a:ext cx="43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tic Traits and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71136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ygenic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yge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racters, such as skin color, are controlled by two or more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2"/>
          <a:stretch/>
        </p:blipFill>
        <p:spPr>
          <a:xfrm>
            <a:off x="0" y="3048120"/>
            <a:ext cx="3316320" cy="3809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19479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"/>
          <p:cNvPicPr/>
          <p:nvPr/>
        </p:nvPicPr>
        <p:blipFill>
          <a:blip r:embed="rId4"/>
          <a:stretch/>
        </p:blipFill>
        <p:spPr>
          <a:xfrm>
            <a:off x="3505320" y="3276720"/>
            <a:ext cx="5653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5-06T14:57:38Z</dcterms:modified>
  <cp:revision>904</cp:revision>
  <dc:subject/>
  <dc:title>No Slide Title</dc:title>
</cp:coreProperties>
</file>